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3CF6-C2EC-4E93-A843-6F495FB81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B2EA-E7D9-4E43-9AC2-7EFBE4CE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09D1-D2F4-4DE9-8362-AF1513A0C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C9E2-D9F3-459E-AA88-70157897D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F5EE-631D-44FF-97B4-F95F359F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09FB-4D33-49F0-AA70-604A7773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7BFE-218C-44FA-9BF1-6D581BDF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C9EF-421B-4500-909D-B8CCF968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C4A0-B317-4E53-BF5C-1040ADFB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7E7E-7E44-4F4A-A7D4-C25B3ADC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D3E1-50DD-4E6E-BB34-2E557AF0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3930-F4C4-421B-8A46-85FAFDFC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BE43-585E-4F31-BE78-F28A8E876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omic Sans MS"/>
              </a:rPr>
              <a:t>Croissant et Décroiss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3143160"/>
            <a:ext cx="266688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omic Sans MS"/>
              </a:rPr>
              <a:t>Croiss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En ordre croissant, tu dois placer les numéros du plus </a:t>
            </a:r>
            <a:r>
              <a:rPr b="1" lang="fr-CA" sz="3200" spc="-1" strike="noStrike" u="sng">
                <a:solidFill>
                  <a:srgbClr val="000000"/>
                </a:solidFill>
                <a:uFillTx/>
                <a:latin typeface="Comic Sans MS"/>
              </a:rPr>
              <a:t>petit</a:t>
            </a: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 au plus </a:t>
            </a:r>
            <a:r>
              <a:rPr b="1" lang="fr-CA" sz="3200" spc="-1" strike="noStrike" u="sng">
                <a:solidFill>
                  <a:srgbClr val="000000"/>
                </a:solidFill>
                <a:uFillTx/>
                <a:latin typeface="Comic Sans MS"/>
              </a:rPr>
              <a:t>gr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Exe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0, 1, 2, 3, 4, 5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124080" y="3865680"/>
            <a:ext cx="221148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omic Sans MS"/>
              </a:rPr>
              <a:t>Décroiss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En ordre décroissant, tu dois placer les numéros du plus </a:t>
            </a:r>
            <a:r>
              <a:rPr b="1" lang="fr-CA" sz="3200" spc="-1" strike="noStrike" u="sng">
                <a:solidFill>
                  <a:srgbClr val="000000"/>
                </a:solidFill>
                <a:uFillTx/>
                <a:latin typeface="Arial"/>
              </a:rPr>
              <a:t>grand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au plus </a:t>
            </a:r>
            <a:r>
              <a:rPr b="1" lang="fr-CA" sz="3200" spc="-1" strike="noStrike" u="sng">
                <a:solidFill>
                  <a:srgbClr val="000000"/>
                </a:solidFill>
                <a:uFillTx/>
                <a:latin typeface="Arial"/>
              </a:rPr>
              <a:t>petit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10, 9, 8, 7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354480" y="3733920"/>
            <a:ext cx="210960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omic Sans MS"/>
              </a:rPr>
              <a:t>Exerc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A-) Place en ordre croiss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10-3-25-305-48-56-89-742-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B-)Place en ordre décroiss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10-48-11-38-49-207-399-88-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505320" y="4495680"/>
            <a:ext cx="1747800" cy="16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14:30:58Z</dcterms:created>
  <dc:creator>nbdoe</dc:creator>
  <dc:description/>
  <dc:language>en-US</dc:language>
  <cp:lastModifiedBy>nbdoe</cp:lastModifiedBy>
  <dcterms:modified xsi:type="dcterms:W3CDTF">2008-09-17T15:24:11Z</dcterms:modified>
  <cp:revision>3</cp:revision>
  <dc:subject/>
  <dc:title>Croissant et Décroissant</dc:title>
</cp:coreProperties>
</file>